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54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hdr"/>
          </p:nvPr>
        </p:nvSpPr>
        <p:spPr>
          <a:xfrm>
            <a:off x="-1800" y="9360"/>
            <a:ext cx="2973240" cy="446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3885840" y="9360"/>
            <a:ext cx="2973240" cy="446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1D4D3E-044B-409A-A045-9961D52C6F31}" type="datetime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-1800" y="9088200"/>
            <a:ext cx="297324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3885840" y="9088200"/>
            <a:ext cx="2973240" cy="446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042BA8-0A51-4FB8-9851-241BF56105A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st of bid to A depends on the share price of the merged company AFTER the me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ume Pay $65m for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also have PV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$275m  PV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$200m  so let N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1m  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$200 )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 of shares issued to B-shar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  PV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/ 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before merger) =  $275m /$200 = 0.325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arent(incorrect cost) = N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before) - PV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0.325(200)-50 = $15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FTER ME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1.5m   hence     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PV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 N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$275/1.5 = $207.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st to A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(0.325/1.325) x 275  - $50m   =   17.45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  z PV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-   PV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= share of the merged firm held by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ly/equival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Cost to A of shares given to B’s shareholde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 (0.325/1.325) x $275m  - $50m   =   </a:t>
            </a:r>
            <a:r>
              <a:rPr b="0" lang="en-GB" sz="1400" spc="-1" strike="noStrike" u="sng">
                <a:solidFill>
                  <a:srgbClr val="ffffff"/>
                </a:solidFill>
                <a:uFillTx/>
                <a:latin typeface="Arial"/>
              </a:rPr>
              <a:t>17.45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=   z PV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-   PV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ere z  =  share of the merged firm held by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f cash is offered then the cost of the merger is unaffected by the post-merger gains.  If shares are offered then the cost depends on the merger gains, which show up in the post merger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gered elections to the Board- more difficult to ‘capture’ the board so they recommend merger to their shar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D PREM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 merger/takeover the predator will have to offer a higher share price to the shareholders of the acquired firm - this is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id premiu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alters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istribu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gains from a me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D PREM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 merger/takeover the predator will have to offer a higher share price to the shareholders of the acquired firm - this is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id premiu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alters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istribu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gains from a me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03480" y="833400"/>
            <a:ext cx="4451040" cy="3338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53816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ef Executive is  4 times more likely to be removed in the year after a  takeover  than during earlier years - 1991.(B-My 6ht p 94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FA5-B77F-4BD7-AB31-C80BC87D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8105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14400" y="3895920"/>
            <a:ext cx="78105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9B9-EBFE-48BE-A8E3-A94CAEF6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99036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89592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16520" y="389592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03C-CF0F-4274-BF68-45FD2A9A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2514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55000" y="990360"/>
            <a:ext cx="2514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95960" y="990360"/>
            <a:ext cx="2514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14400" y="3895920"/>
            <a:ext cx="2514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55000" y="3895920"/>
            <a:ext cx="2514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95960" y="3895920"/>
            <a:ext cx="2514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B44-4E0D-46AC-A848-7199EF8F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914400" y="990360"/>
            <a:ext cx="7810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C60-7C96-4C3F-B430-B1941F2D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8105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FB7-87C2-47BA-8497-8D5E80B8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38113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16520" y="990360"/>
            <a:ext cx="38113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8A5-AF16-47B4-A879-C142085A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760-7CCD-4374-9952-BA033D61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70102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B41-E3CB-47AF-9A85-B19A3392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16520" y="990360"/>
            <a:ext cx="38113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14400" y="389592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187-08AB-48D2-B090-1D29CB52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38113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16520" y="99036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16520" y="389592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F44-4BAD-43BA-856E-10DD5F45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16520" y="990360"/>
            <a:ext cx="381132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895920"/>
            <a:ext cx="78105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4A5-EA89-4037-82B5-E5472FC1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2000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© K.Cuthbertson,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-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4DB033-D52B-43A9-9FA3-72FC5CD62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4040" y="0"/>
            <a:ext cx="7010280" cy="590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14400" y="990360"/>
            <a:ext cx="7810560" cy="5562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238880" y="-15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7B076E-1736-40F8-AB2A-6660BABEE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000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© K.Cuthbertson,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762120"/>
            <a:ext cx="79246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fff"/>
                </a:solidFill>
                <a:latin typeface="Arial Rounded MT Bold"/>
              </a:rPr>
              <a:t>L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fff"/>
                </a:solidFill>
                <a:latin typeface="Arial Rounded MT Bold"/>
              </a:rPr>
              <a:t>Mergers and Acquisitions, M&amp;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b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b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fbffff"/>
                </a:solidFill>
                <a:latin typeface="Arial"/>
              </a:rPr>
              <a:t>11/9/2001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90792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x Advantages - loss ‘carry forwards’ used by ‘profitable’ bidder (merely a redistribution of income from tax payers to sharehol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e Market Power / Reduce Competition-Reg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up’ Free Cash Flow after undertaking all NPV&gt;0 projects  - Empire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 funds should be paid out to shareholders who then decide the best use for the cash (eg. to invest in other firm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bris (=Overconfidence) - Guinness-Disti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fees for Corporate Bankers/Lawyer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6920" y="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d Economic Mo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58F-A2D1-4052-80ED-8A836BEC37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3000"/>
          </a:bodyPr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onomic G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tribution of Ga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E9E-6939-49B5-BDA1-5C280553C1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2880" y="0"/>
            <a:ext cx="67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onomic Gains and Distribution of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2160" y="1496880"/>
            <a:ext cx="5553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Economic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Distribution of Ga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cash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cash offer and underpri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) Distribution of Ga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share off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992-53BC-4E28-B59F-E396E5510C9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2880" y="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onomic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241280"/>
            <a:ext cx="80010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ins from a mer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re the 2 firms worth more together than a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current share price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rrectly refl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each firm’s ‘stand alone’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$200 x 1m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$200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eflects PV of FCF)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$50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assume      P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$2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85F-0BEE-4B26-8B80-F2442872200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90720" y="816120"/>
            <a:ext cx="769608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ai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=  PV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- (PV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+ PV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) - transactions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$25    =  275   - (200 + 50) - 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he difficulty is in assessing PV</a:t>
            </a:r>
            <a:r>
              <a:rPr b="0" lang="en-GB" sz="2200" spc="-1" strike="noStrike" u="sng" baseline="-25000">
                <a:solidFill>
                  <a:srgbClr val="ffffff"/>
                </a:solidFill>
                <a:uFillTx/>
                <a:latin typeface="Arial"/>
              </a:rPr>
              <a:t>A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jor difficulties in using NPV to assess the gains (‘synergies’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because of lack of data on FUTUR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f A+B, at the time of the take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Friendl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akeover -  more data may be available on value of A+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Hostil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akeover - much less data available on possible synerg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cenario/sensitivity analysis will be used to estimate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V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2880" y="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onomic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25D-E2A5-438C-A1C3-2D60EF230E8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990720"/>
            <a:ext cx="789624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REAL OPTIONS THEORY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 is now being used to value the merged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when involving ‘young’ dot.c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alue of merged comp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‘conventional’ estimate of PV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value of ‘new’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w options’ = option to expand into new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 -if these ‘take-off’, then large profits (e.g. AOL-Time Warner with Disney films down the internet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2880" y="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onomic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F74-A391-4CD7-9FD1-7C4790E7FAC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9160" y="23760"/>
            <a:ext cx="53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ribution of Gains: Cash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50840" y="685800"/>
            <a:ext cx="733104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 ‘Correctly’ Priced in th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‘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’ takeover of ‘B’: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in for B= Cost fo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 (cash  paid - PV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 = 65 - 50 = $15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the ‘bid premium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a gain to B’s shar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Gain for A’s shar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i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Gai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- Cost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25 - 15 = $1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turn to B’s shareholders = 15/50 =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turn to A’s shareholders = 10/200 = 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78F-8A4C-4872-8185-6567426CAEB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1550880"/>
            <a:ext cx="84913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Gai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had been 10 (rather than 25)  then A’s shareholders would loose from the mer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i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Gai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- Cost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10 - 15 = -$5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nd P</a:t>
            </a:r>
            <a:r>
              <a:rPr b="0" lang="en-GB" sz="2800" spc="-1" strike="noStrike" u="sng" baseline="-25000">
                <a:solidFill>
                  <a:srgbClr val="ffffff"/>
                </a:solidFill>
                <a:uFillTx/>
                <a:latin typeface="Arial"/>
              </a:rPr>
              <a:t>A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would fall on announcement of merger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9160" y="23760"/>
            <a:ext cx="53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ribution of Gains: Cash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EC1-35DA-44F8-ABA0-E4C1FE9AD6E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01880" y="0"/>
            <a:ext cx="51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sh Offer: Target Underpri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4560" y="838080"/>
            <a:ext cx="7918560" cy="57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If P</a:t>
            </a:r>
            <a:r>
              <a:rPr b="0" lang="en-GB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B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 &lt;&lt; PV</a:t>
            </a:r>
            <a:r>
              <a:rPr b="0" lang="en-GB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B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 : ie. B is underpric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(for a given bid premium) more of the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 to A.  ‘A’ can gain, even if ther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no syner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In this case there is not a gain for ‘society’, but a redistribution from B’s shareholders to A’s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~ but note that A could ‘realise’ this gain by simply buying B’s shares (and not merging) and merely  waiting for the ‘market correction’ that increases B’s pr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7D6-899E-4294-BE6A-FDADB2C7D67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6200" y="144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are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0560" y="914400"/>
            <a:ext cx="84898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sume A pays  $65m for B  (as with the cash off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als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$275m,    PV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$200m,     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1m  and  P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$2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B’s shareholders are to receive the equivalent of $6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(A’s) shares to be issued to B-shar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  PV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/ P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before merger) =  $65m /$200 = 0.32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announced BEFORE the actual merger takes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2DF-BF3E-4356-BDF5-DD68A9D07D2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2520" y="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8380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ypes of Merger/ M&amp;A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od/Bad Economic Mo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conomic Gains and Distribution of G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 Cash Offer/ Share Of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of Mergers and Defence Tact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o Benefits/Loses: Empi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f Study: Regulation of Mergers: 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91C-383D-4977-BB54-6C5A93525C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15560" y="911160"/>
            <a:ext cx="712872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Apparent(but incorrect cost to 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= 0.325 (200)-50 =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$15m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as in ‘cash offer)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- PV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B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BUT 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rrect’ cost of bid to A depends on the share pr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f the merged company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 AFTER the mer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AFTER MER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1.325m   henc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PV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/ 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$275/1.325 = $207.5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‘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rue’ Cost to A of shares given to B’s shareholde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0.325 x 207.55  - $50m   =  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17.45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6200" y="144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are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F49-319C-4A48-BE98-851039541C4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15840" y="7632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sh versus Share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85600" y="1295280"/>
            <a:ext cx="820908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S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to A of the merger is unaffec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post-merger gai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to A depends on the merger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, which show up in the post merger price,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F78-5DEF-47FC-B19C-FBE7B2DC809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3000"/>
          </a:bodyPr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ncing of Merg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ence Tac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CED-6FD1-4BAF-BC78-F96CFFB698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7640" y="76320"/>
            <a:ext cx="35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nancing of Mer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94240" y="914400"/>
            <a:ext cx="824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H (TENDER) O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rce of cash can be provided by the acquirer under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‘rights issue’ or, by bank borrowing or, issuing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.g. LBO) or by using retained profits (‘free cash flow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dvantag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arget shareholders is ‘precision’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free to re-invest the cash in any othe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advantag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cash paid out may be treat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lised capital gain and ta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dvanta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acquirer is that it retains total contro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new merged firm (ie no ‘dilution’ for its shar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B17-0A1B-4EDB-AFCA-8BDF15351B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8000" y="914400"/>
            <a:ext cx="7941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ARE O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dvantag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arget shareholde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at any capital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 ‘new’ shares are not realised and hence not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immediate capital gains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dvantag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arget sharehold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ave (voting) sh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new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-disadvantag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acquirer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f target (B) is overvalu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ck market or bid premium is ‘too high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XED OFFERs ARE ALSO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h, shares, preference shares, share op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7640" y="76320"/>
            <a:ext cx="35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nancing of Mer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7E1-3FD1-48CA-9654-DC43B9E954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92160" y="54000"/>
            <a:ext cx="27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ence Tac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360" y="762120"/>
            <a:ext cx="8026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C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unt a counter bid against the pred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TE K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rrange another bid from a friendly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ISON P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make bid costly (e.g.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you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hareholders can buy sh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 new company at  v. large dis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ghts issue to dilute predators holding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ISON PUT (in bond covena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bondholders of target can demand immediate re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full, if there is a change in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OWN JEW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sell off bits the acquirer is most interest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7B6-C659-4714-BF1A-7EA16DBE66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000" y="1560600"/>
            <a:ext cx="78282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LDEN PARACH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rs get massive payoff if they are take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EEN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ibe your shareholders with promise of  larg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vidend payouts if they don’t sell their sh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buy-up shares promised to the predator,  at a prem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ARK REPEL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supermajority (80%) to approve 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restricted voting rights (for shareholders who 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than x% of st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2160" y="54000"/>
            <a:ext cx="27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ence Tac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1A6-039B-4A95-AC16-5C339B96CA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6000"/>
          </a:bodyPr>
          <a:p>
            <a:pPr marL="123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o Benefits/Los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23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mpir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23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23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23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E38-D0EB-46F5-8286-80D977F359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91440" y="54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o Benefits/Loses: Empi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9000" y="1219320"/>
            <a:ext cx="7852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cquiring management gain control and $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4 directors of RBS shared £2.5 for successf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keover of Nat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Vodaphone CE Chris Gent £10m for take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 Manne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cquired managers(‘golden parachutes’ or redunda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usually redundancies for some employees of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8A1-E061-4B67-A848-670B93D113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15840" y="1371600"/>
            <a:ext cx="8213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AR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ARGET SHAREHOLDERS g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CQUIRING SHAREHOLDERS - lose or break ev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v. mixed (see CAR and Post merger performance - be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1440" y="54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o Benefits/Loses: Empi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96C-1043-4DD4-B16E-38C7628F83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ypes of Merger/ M&amp;A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2A4-0E11-4BAE-A8F2-A1DAE9CAA8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16200" y="1143000"/>
            <a:ext cx="826560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markets reaction/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bnormal Return and Cumulative Abnormal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) Use data from -70days to -10 days before annou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mal Return =  a + (beta)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) Data -10 days to +10 days after annou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= Actual R  -  Normal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 = sum of AR (from -10 to +10 or lon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s are forward looking so change in price reflect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V of  all future prospects/pro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1440" y="54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o Benefits/Loses: Empi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583-F170-43C0-8188-1AC16A51D2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52480" y="838080"/>
            <a:ext cx="0" cy="4876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4572000"/>
            <a:ext cx="6629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4572000"/>
            <a:ext cx="38124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5029200"/>
            <a:ext cx="45720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666880" y="2971440"/>
            <a:ext cx="38124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2971800"/>
            <a:ext cx="38088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429000" y="4419720"/>
            <a:ext cx="4572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419720"/>
            <a:ext cx="3049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191120" y="4419720"/>
            <a:ext cx="4572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4419720"/>
            <a:ext cx="3049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019920" y="3733920"/>
            <a:ext cx="15228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72200" y="3809880"/>
            <a:ext cx="30492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477120" y="4495320"/>
            <a:ext cx="4572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4495680"/>
            <a:ext cx="53316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543800" y="4419720"/>
            <a:ext cx="3049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4572000"/>
            <a:ext cx="38124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4952880"/>
            <a:ext cx="45720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590920" y="2057040"/>
            <a:ext cx="990360" cy="335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581280" y="1752120"/>
            <a:ext cx="45720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38480" y="1752480"/>
            <a:ext cx="22860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7080" y="1676520"/>
            <a:ext cx="457200" cy="30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1676520"/>
            <a:ext cx="30456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95880" y="990720"/>
            <a:ext cx="30492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990720"/>
            <a:ext cx="228600" cy="30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629400" y="1142640"/>
            <a:ext cx="38088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1143000"/>
            <a:ext cx="30492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50292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id announced by Doubletree 31/12/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10280" y="1936800"/>
            <a:ext cx="22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oubletree drops out as Marriott announces agreement to acquire 18/2/9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2819520" y="4648320"/>
            <a:ext cx="838080" cy="9144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095520" y="3352680"/>
            <a:ext cx="838440" cy="121932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3/12/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2/3/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1880" y="46483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609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R (Daily) and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2286000"/>
            <a:ext cx="685800" cy="685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2590920" y="3429000"/>
            <a:ext cx="30456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599840" y="1981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600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5998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599840" y="3886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599840" y="914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533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59984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99840" y="4572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5400" y="25560"/>
            <a:ext cx="75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 and CAR: Target = Renaissance Hotel G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5CC-9C87-460C-8879-0EDFAF66E1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836640" y="1143000"/>
            <a:ext cx="80658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markets reaction/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RESULT (Average of US merg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quired/Target  firm’s shares have CAR of around +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quirer, CAR of -3.2% (stock offer)and -0.8% (cash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acquirer, over 2-years after merger, CAR is -17% (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ZE 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$10m  and CAR = +100%,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$-gain = $2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$1000m and CAR is -2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$-loss = $2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1440" y="54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o Benefits/Loses: Empi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D9B-87F7-4921-BF9D-5FCAF8981C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90720" y="17272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ong term Post-Merger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s accounting measures of return (eg. ROC )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ged firm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relative to those in the ‘control grou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g. non-merged firms in the same industry= ‘matched sample’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Result mergers (on average) are ‘neutral’ or ‘negative’ (UK and 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1440" y="54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o Benefits/Loses: Empi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55B-512C-451A-9C09-B2D6C92DDA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20200" y="1873080"/>
            <a:ext cx="31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nd of L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555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DE3-0FAE-4618-A0CD-7A7F6C255BE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3000"/>
          </a:bodyPr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f Stu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gulation of Merg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8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FC3-BBA1-45CE-8DD5-CE94956D95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990720" y="14400"/>
            <a:ext cx="67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ulation of Mergers: 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4320" y="914400"/>
            <a:ext cx="8007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akeover Pa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o ensure fairness for all sharehol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n UK when ‘one firm’ holds 3% of the total sh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tstanding of B,  then you must make this 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Purchase of more than 10% of shares in B within 7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not allowed if this takes total shareholding to over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o prevent purchases from ‘professionals’ rath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l shar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32A-5BE6-48F8-A234-0EF3688DD2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95760" y="1447920"/>
            <a:ext cx="792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over 30% holding then T.P usually insists on a bid fo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 B’s remaining shares.  B comes ‘into play’  a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keover target (observable by al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ffice of Fair Trading (OF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ensures 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onopolies and Mergers Com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nvestigates M&amp;A referred to it by 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14400"/>
            <a:ext cx="67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ulation of Mergers: 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F13-F240-48BC-B28C-5653FEE785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219840" y="1873080"/>
            <a:ext cx="28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nd of Sl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555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D4A-75B5-4C7C-9049-76E9CAC60E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3240" y="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ypes of Me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14040" y="8380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er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bining of two business under common ownership (over 95% are friendly, 5% hostile takeov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nks and Building Socie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xo-Welcome,  Nestle-Rowntree, Granada-Forte(199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Ver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il drilling, refinery and petrol 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 manufacturer and re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L (America Online) and Time Warner (2000), Yahoo and others(1996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onglomerat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Hanson Tr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1E0-B8A4-45D9-AAC5-9E382B593C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90360" y="1295280"/>
            <a:ext cx="78483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bursement/Disinvestment/Downsi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we will not discuss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trategic Alli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BA, Quantas, Air Liberte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3240" y="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ypes of Me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E26-D029-455F-AB75-2DD00F4E75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5480" y="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&amp;A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76212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d 1960’s   -conglomerate merg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en broken up in 1980’s and 1990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970’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vertical inte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ow ‘outsourcing’ 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980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leveraged buyouts (USA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RJR Nabis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990’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horizontal mer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g. banks)/cross-border (eg. in Euro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 ‘waves’   71-72, 87-89, 97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734-340E-49CF-BC9D-F0345AE820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8080" y="76212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997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ish Petroleum acquires Amoco ($48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xon acquires Mobil ($80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mler-Benz acquires Chrysler ($38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vellers Group acquires  Citicorp ($83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tsche Bank acquires Bankers Trust ($10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OL-Time Warner ($190b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loyds - Abbey Nationa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5480" y="0"/>
            <a:ext cx="21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&amp;A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57B-088D-4104-8D2F-130A521A22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/Bad Economic Mo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F07-1F53-4595-A555-C00CD568E6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6920" y="0"/>
            <a:ext cx="40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od Economic Mo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181160"/>
            <a:ext cx="815328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ore Efficient Use of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management in merged fi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.g. Marriott takeover of Renaissance hotel grp,  Dec 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st savings (e.g. close bank branch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itional revenue generation (e.g. AOL-Time War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chnology transfer/know-how (e.g. Glaxo-Welc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ategic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‘option’ to do something in the future e.g. AOL-Time Warn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65530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DED-FA19-4BCE-B2C5-2F94F78B1C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4T08:10:24Z</dcterms:created>
  <dc:creator>Imperial College</dc:creator>
  <dc:description/>
  <dc:language>en-US</dc:language>
  <cp:lastModifiedBy>Keith Cuthbertson</cp:lastModifiedBy>
  <cp:lastPrinted>2001-09-24T16:22:44Z</cp:lastPrinted>
  <dcterms:modified xsi:type="dcterms:W3CDTF">2001-10-03T17:53:34Z</dcterms:modified>
  <cp:revision>68</cp:revision>
  <dc:subject/>
  <dc:title>No Slide Title</dc:title>
</cp:coreProperties>
</file>